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11F5-2C62-45CF-9332-003053E5C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4935-4CD3-4A52-9F61-80933D21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EC59-C770-4948-9EF6-3110D7A68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1553-45A1-4C3C-B8EE-4E65D0014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2663-A91E-4673-BB30-86AC407B6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FFC6-166B-4BB3-AC44-1DAD4988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322B-247A-406D-AEA6-EF076702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A825-EED3-46D8-BCB3-AA1F6BDF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005B-0A07-4A8B-8865-56A63A9C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4517-5DD9-4F65-A2D5-D0FC2BED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0599-6F3C-4B65-AFC3-B3B15246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4030-28AE-4887-8677-FA082E82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6CEE-AF3F-40FD-A46F-57A378E6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C3338-301A-40CF-A07F-527CD8A4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49C9-2FB5-46E9-B5F6-DAEB0DC4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0AA4-E4CF-4216-B0EB-12F0882CA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F87B-30F9-4D58-9277-570FD48EF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B4552-7732-415D-BCB4-A223E62FA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6C5BE-B146-4AA2-92F8-325630F0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B88C7-15F4-4CF3-9F6F-692AC3D3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98B61-3DED-4C6F-87CB-87973081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51AB7-53C1-4205-9975-0AC46398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9BE8-27EF-4B33-92F3-52029FBE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9ED4F-023D-445D-A5D8-1C253B1D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E93D4-9C07-4B81-AFF5-756B17FA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E8FC8-4B1F-4384-A724-05FB1D86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CF257-FD03-4F35-82F0-B8AB3B97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19AFF-E7E5-4D26-A778-3DB7F5B3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10043-8F8B-42E2-BEA3-900FC6D0B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F0920-F3F4-4C42-ADAA-62A50E6DD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0F86B-F85A-4003-BA9C-E8E5456D8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BA971-4F3D-4CD3-920D-94257B65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2A154-8C13-45EF-A71C-9D148E48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4A2C-C22D-49D6-BF3E-234FDFD9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92382-2565-460D-9A89-6F1C3D88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15DE5-EAFB-447A-B5B6-10DFF124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1DE56-F840-454A-8734-54D15DF3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B0993-20F7-4521-B966-1D32FB97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9D6E3-B73A-4AEA-AF12-AF86C6A7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5FB40-6D0F-403A-A4D0-CA64BF31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62FF4-2A6F-4EEA-A89D-42131D52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D634D-EB97-491C-BE64-39E000AD7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78E46-E039-45BF-9944-07583D8DE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0CB41-BC8E-4C9F-81E0-9A263C35E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1AF5-8FA1-43E1-8EAD-767A3537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FE165-A8D0-4B5C-8BB2-3907E616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2B65C-AF2D-4A3A-991E-6C9BFFB5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80868-2C77-4A88-9CCE-E61F808C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F1B45-5982-4266-A3AE-451C4F7F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DEF53-0517-48BE-A79B-FA83E2BF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FE62B-6148-4D87-88AF-9A1DE20D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0AC67-104F-4DAB-AB3E-6F4D0A86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33A16-7378-48B9-850F-5CA65867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AF8F2-8D42-4AE1-A189-654EDA9F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53A40-BF9A-47AA-867D-EBF2EC60A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62C1-7DF2-4656-BD94-B179A1DA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6ABE1-6271-4B5B-B28F-3C87890B6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9AB9-D850-4494-A00D-2ADFC599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9B3F-1FC5-4125-9A94-C3CDB3CA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3FB0-F76A-4F30-B9E4-2FB36895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142F-1958-4D8A-9617-11185F2F5E06}" type="slidenum">
              <a:rPr b="0" lang="es-E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171A-55BE-44D0-8456-08C8FD1E2B92}" type="slidenum">
              <a:rPr b="0" lang="es-E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F2DF-76ED-443C-89FA-6E8FC45DEF25}" type="slidenum">
              <a:rPr b="0" lang="es-E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43434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0FB5-1D5E-494C-BB65-0A678D0FA273}" type="slidenum">
              <a:rPr b="0" lang="es-ES" sz="1600" spc="-1" strike="noStrike">
                <a:solidFill>
                  <a:srgbClr val="434342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F69C-81A8-472C-B412-52C39F470685}" type="slidenum">
              <a:rPr b="0" lang="es-E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673x6731245782170_flatolabia1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6"/>
          <p:cNvSpPr/>
          <p:nvPr/>
        </p:nvSpPr>
        <p:spPr>
          <a:xfrm>
            <a:off x="2627280" y="364500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Explicamos imáge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5 CuadroTexto"/>
          <p:cNvSpPr/>
          <p:nvPr/>
        </p:nvSpPr>
        <p:spPr>
          <a:xfrm>
            <a:off x="5580000" y="981000"/>
            <a:ext cx="28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Reflejamos lo que hemos aprendi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2" descr="Reloj"/>
          <p:cNvPicPr/>
          <p:nvPr/>
        </p:nvPicPr>
        <p:blipFill>
          <a:blip r:embed="rId2"/>
          <a:stretch/>
        </p:blipFill>
        <p:spPr>
          <a:xfrm>
            <a:off x="3564000" y="486900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13"/>
          <p:cNvSpPr/>
          <p:nvPr/>
        </p:nvSpPr>
        <p:spPr>
          <a:xfrm>
            <a:off x="5076720" y="5157720"/>
            <a:ext cx="35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5435640" y="544500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 hora 30 minu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5" descr="1290942693542"/>
          <p:cNvPicPr/>
          <p:nvPr/>
        </p:nvPicPr>
        <p:blipFill>
          <a:blip r:embed="rId1"/>
          <a:stretch/>
        </p:blipFill>
        <p:spPr>
          <a:xfrm>
            <a:off x="0" y="0"/>
            <a:ext cx="4714920" cy="31431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calle"/>
          <p:cNvPicPr/>
          <p:nvPr/>
        </p:nvPicPr>
        <p:blipFill>
          <a:blip r:embed="rId2"/>
          <a:stretch/>
        </p:blipFill>
        <p:spPr>
          <a:xfrm>
            <a:off x="4429080" y="0"/>
            <a:ext cx="4714920" cy="3638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17_img"/>
          <p:cNvPicPr/>
          <p:nvPr/>
        </p:nvPicPr>
        <p:blipFill>
          <a:blip r:embed="rId3"/>
          <a:stretch/>
        </p:blipFill>
        <p:spPr>
          <a:xfrm>
            <a:off x="0" y="3141720"/>
            <a:ext cx="3691080" cy="3716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1" descr="Medieval_baker"/>
          <p:cNvPicPr/>
          <p:nvPr/>
        </p:nvPicPr>
        <p:blipFill>
          <a:blip r:embed="rId4"/>
          <a:stretch/>
        </p:blipFill>
        <p:spPr>
          <a:xfrm>
            <a:off x="2771640" y="2997360"/>
            <a:ext cx="4105440" cy="2536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3" descr="y1pQbTqW0dw3lMnrVsTOw2LV1hT82w_15CjjECKskAKW7irHh9MyMuRRJM_Xfh573fLqIAEdoyvk1o"/>
          <p:cNvPicPr/>
          <p:nvPr/>
        </p:nvPicPr>
        <p:blipFill>
          <a:blip r:embed="rId5"/>
          <a:stretch/>
        </p:blipFill>
        <p:spPr>
          <a:xfrm>
            <a:off x="6372360" y="3573360"/>
            <a:ext cx="2771640" cy="275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5" descr="1"/>
          <p:cNvPicPr/>
          <p:nvPr/>
        </p:nvPicPr>
        <p:blipFill>
          <a:blip r:embed="rId6"/>
          <a:stretch/>
        </p:blipFill>
        <p:spPr>
          <a:xfrm>
            <a:off x="3564000" y="5019840"/>
            <a:ext cx="248580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1 CuadroTexto"/>
          <p:cNvSpPr/>
          <p:nvPr/>
        </p:nvSpPr>
        <p:spPr>
          <a:xfrm>
            <a:off x="1258920" y="260280"/>
            <a:ext cx="6553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c3e3f"/>
                </a:solidFill>
                <a:latin typeface="Arial"/>
              </a:rPr>
              <a:t>LOS GREM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d0d0d"/>
                </a:solidFill>
                <a:latin typeface="Arial"/>
              </a:rPr>
              <a:t>En la baja edad media, tanto la agricultura como el comercio mejoraron debido a una buena temporada de cosechas. Las cosechas fueron abundantes, hubo </a:t>
            </a:r>
            <a:r>
              <a:rPr b="0" lang="es-ES" sz="2800" spc="-1" strike="noStrike" u="sng">
                <a:solidFill>
                  <a:srgbClr val="0d0d0d"/>
                </a:solidFill>
                <a:uFillTx/>
                <a:latin typeface="Arial"/>
              </a:rPr>
              <a:t>excedentes</a:t>
            </a:r>
            <a:r>
              <a:rPr b="0" lang="es-ES" sz="2800" spc="-1" strike="noStrike">
                <a:solidFill>
                  <a:srgbClr val="0d0d0d"/>
                </a:solidFill>
                <a:latin typeface="Arial"/>
              </a:rPr>
              <a:t> y los campesinos se dedicaron al comercio. </a:t>
            </a:r>
            <a:r>
              <a:rPr b="0" lang="es-ES" sz="2800" spc="-1" strike="noStrike" u="sng">
                <a:solidFill>
                  <a:srgbClr val="0d0d0d"/>
                </a:solidFill>
                <a:uFillTx/>
                <a:latin typeface="Arial"/>
              </a:rPr>
              <a:t>El gremio </a:t>
            </a:r>
            <a:r>
              <a:rPr b="0" lang="es-ES" sz="2800" spc="-1" strike="noStrike">
                <a:solidFill>
                  <a:srgbClr val="0d0d0d"/>
                </a:solidFill>
                <a:latin typeface="Arial"/>
              </a:rPr>
              <a:t>es una agrupación de artesanos del mismo oficio que se ocupaban del cumplimiento de las normas para que los productos fabricados tengan una mejor calidad.</a:t>
            </a:r>
            <a:r>
              <a:rPr b="0" lang="es-ES" sz="2800" spc="-1" strike="noStrike">
                <a:solidFill>
                  <a:srgbClr val="00b0f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scriptorium"/>
          <p:cNvPicPr/>
          <p:nvPr/>
        </p:nvPicPr>
        <p:blipFill>
          <a:blip r:embed="rId1"/>
          <a:stretch/>
        </p:blipFill>
        <p:spPr>
          <a:xfrm>
            <a:off x="684360" y="1700280"/>
            <a:ext cx="3429000" cy="36320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20070712klphishes_3_Ges_SCO"/>
          <p:cNvPicPr/>
          <p:nvPr/>
        </p:nvPicPr>
        <p:blipFill>
          <a:blip r:embed="rId2"/>
          <a:stretch/>
        </p:blipFill>
        <p:spPr>
          <a:xfrm>
            <a:off x="4788000" y="1628640"/>
            <a:ext cx="377172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1 CuadroTexto"/>
          <p:cNvSpPr/>
          <p:nvPr/>
        </p:nvSpPr>
        <p:spPr>
          <a:xfrm>
            <a:off x="539640" y="549360"/>
            <a:ext cx="7848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Arial"/>
              </a:rPr>
              <a:t>MONJES COPISTAS(COPIA DE LIBRO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Arial"/>
              </a:rPr>
              <a:t>Los monjes se dedicaban a copiar libros y también a traducirlos en otro idioma. Aquellos libros estaban muy decorados y tenían la primera letra del libro o capítulo muy adornado, por ello, los monasterios eran conocidos como un centro de cultur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5" descr="peregrinos"/>
          <p:cNvPicPr/>
          <p:nvPr/>
        </p:nvPicPr>
        <p:blipFill>
          <a:blip r:embed="rId1"/>
          <a:stretch/>
        </p:blipFill>
        <p:spPr>
          <a:xfrm>
            <a:off x="1619280" y="620640"/>
            <a:ext cx="611964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2 CuadroTexto"/>
          <p:cNvSpPr/>
          <p:nvPr/>
        </p:nvSpPr>
        <p:spPr>
          <a:xfrm>
            <a:off x="971640" y="836640"/>
            <a:ext cx="7345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030a0"/>
                </a:solidFill>
                <a:latin typeface="Arial"/>
              </a:rPr>
              <a:t>EL CAMINO DE SANTI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030a0"/>
                </a:solidFill>
                <a:latin typeface="Arial"/>
              </a:rPr>
              <a:t>El camino de Santiago es una ruta que recorren los peregrinos procedentes de todo el mundo para llegar a la ciudad de Santiago de Compostela, donde se veneran las reliquias del apóstol Santiago el Mayor. Se hacía de forma voluntaria y durante toda la Edad Media fue muy concurrido, después fue ligeramente olvidado y en la actualidad ha vuelto a tomar un gran au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5" descr="A_073_Hierarchy"/>
          <p:cNvPicPr/>
          <p:nvPr/>
        </p:nvPicPr>
        <p:blipFill>
          <a:blip r:embed="rId1"/>
          <a:stretch/>
        </p:blipFill>
        <p:spPr>
          <a:xfrm>
            <a:off x="755640" y="476280"/>
            <a:ext cx="4608360" cy="31924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piramide-feudal"/>
          <p:cNvPicPr/>
          <p:nvPr/>
        </p:nvPicPr>
        <p:blipFill>
          <a:blip r:embed="rId2"/>
          <a:stretch/>
        </p:blipFill>
        <p:spPr>
          <a:xfrm>
            <a:off x="5651640" y="2637000"/>
            <a:ext cx="31622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2 CuadroTexto"/>
          <p:cNvSpPr/>
          <p:nvPr/>
        </p:nvSpPr>
        <p:spPr>
          <a:xfrm>
            <a:off x="1042920" y="549360"/>
            <a:ext cx="7309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b050"/>
                </a:solidFill>
                <a:latin typeface="Arial"/>
              </a:rPr>
              <a:t>LA PIRÁMIDE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b050"/>
                </a:solidFill>
                <a:latin typeface="Arial"/>
              </a:rPr>
              <a:t>La pirámide social de la edad media se diferenciaba en dos grup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b050"/>
                </a:solidFill>
                <a:latin typeface="Arial"/>
              </a:rPr>
              <a:t>-Los privilegiados: lo formaban la minoría de la población como el rey, los nobles y el clero, aquellos no tenían que pagar impue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b050"/>
                </a:solidFill>
                <a:latin typeface="Arial"/>
              </a:rPr>
              <a:t>-Los no privilegiados: lo formaban la mayoría de la población que eran los campesinos y los artesanos. Ellos tenían que pagar impuestos y además un diezmo para los monj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b050"/>
                </a:solidFill>
                <a:latin typeface="Arial"/>
              </a:rPr>
              <a:t>En la baja edad media surgen un nuevo grupo social que es la burguesí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5T08:35:44Z</dcterms:created>
  <dc:creator>IR015252AG</dc:creator>
  <dc:description/>
  <dc:language>en-US</dc:language>
  <cp:lastModifiedBy>Tekno Ikaslea-Xose1</cp:lastModifiedBy>
  <dcterms:modified xsi:type="dcterms:W3CDTF">2014-02-24T13:44:23Z</dcterms:modified>
  <cp:revision>17</cp:revision>
  <dc:subject/>
  <dc:title>Diapositiva 1</dc:title>
</cp:coreProperties>
</file>